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9E23-F19B-4108-B852-9E5330873A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9E2-4016-48E1-9B78-F9D163890B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DE9C-51B0-4C7C-8134-84D509DBF09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509C-2202-4DA8-A728-1AFAE2848B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C583-8A81-4CEB-83CC-38523BDC10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73E4-80A4-402E-9FE7-81D284FA91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D315-6920-47C3-ACD2-FDE068EF51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027D-B2BB-4D29-A516-68D4E15BEA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C484-721A-4A35-B4AD-A32643EB20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1363-EC3B-4B68-B17F-093F976902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9D6E-43CE-428F-A13D-B8D395E64B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3540-1F48-47B7-B569-AC70CBF02C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C95-310E-4F42-ACE6-B4B97320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B45-A801-4677-A25A-A73A6C37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0DD-B60C-45AC-ACBB-4D4ABB56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131-C2E4-4C1C-AE1A-34D3D0C3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200-F401-40A9-BEDE-B296B774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56C-3532-46BD-B4ED-5FA81C7B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C13-3E0F-4E38-BF3F-05B3B591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3CC-B332-420D-A568-A6B7C4B5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4FD-5739-4BC6-ABF9-16F78BF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B94-9B0D-4215-BA5F-5348774D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F82-BE67-498B-B8C4-82ABA60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DE6-3668-4CAC-8EA8-33987A2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E0E-391F-4470-BBF4-481FE02FCE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Documents and Settings\Moni\Pulpit\Ireland\P6230964.JPG"/>
          <p:cNvPicPr/>
          <p:nvPr/>
        </p:nvPicPr>
        <p:blipFill>
          <a:blip r:embed="rId1"/>
          <a:stretch/>
        </p:blipFill>
        <p:spPr>
          <a:xfrm>
            <a:off x="714240" y="928800"/>
            <a:ext cx="7878960" cy="5735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Irlandia – doświadczenia             w organizacji prezydencji Rady UE w pierwszej połowie 2004 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840" y="500076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jekt został zrealizowany przy wsparciu finansowym Komisji Europejskiej w ramach programu „Uczenie się przez całe życi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logo"/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53" name="pole tekstowe 7"/>
          <p:cNvSpPr/>
          <p:nvPr/>
        </p:nvSpPr>
        <p:spPr>
          <a:xfrm>
            <a:off x="3214800" y="6143760"/>
            <a:ext cx="30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Konferencja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8334360" y="214200"/>
            <a:ext cx="809640" cy="838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6929280" y="3143160"/>
            <a:ext cx="15480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Monika Deszcz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Marcin Wiatr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XIX Promo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C:\Users\dominika\Desktop\leonardo_rgb.jpg"/>
          <p:cNvPicPr/>
          <p:nvPr/>
        </p:nvPicPr>
        <p:blipFill>
          <a:blip r:embed="rId1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ady urzędników DSP w sprawie organizacji prezyden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5840" y="1785600"/>
            <a:ext cx="8501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ecentralizacja  wydarzeń związanych z prezydencją - szansa na rozwój region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a liasons offic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erpanie z doświadczeń prezydencji poprzedzających prezydencję irlandzką w zakresie organizacji konferencji, spotkań i innych przedsięwzięć masow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kładne rozliczanie kosztów organizowanych konferencji, szczególnie przy korzystaniu ze współfinansowania Komisji Europejski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ranne przygotowanie dokumentacji przetargowej na świadczenie usług przy organizacji prezyden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elokrotne wykorzystanie zakupionego sprzętu technicz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logo"/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7"/>
          <p:cNvSpPr/>
          <p:nvPr/>
        </p:nvSpPr>
        <p:spPr>
          <a:xfrm>
            <a:off x="3286080" y="648972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4"/>
          <a:stretch/>
        </p:blipFill>
        <p:spPr>
          <a:xfrm>
            <a:off x="8334360" y="285840"/>
            <a:ext cx="809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:\Documents and Settings\Moni\Pulpit\Ireland\P6210769.JPG"/>
          <p:cNvPicPr/>
          <p:nvPr/>
        </p:nvPicPr>
        <p:blipFill>
          <a:blip r:embed="rId1"/>
          <a:stretch/>
        </p:blipFill>
        <p:spPr>
          <a:xfrm>
            <a:off x="6572160" y="4429080"/>
            <a:ext cx="1660680" cy="2214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4280" y="642600"/>
            <a:ext cx="64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Ocena</a:t>
            </a:r>
            <a:r>
              <a:rPr b="1" lang="pl-PL" sz="32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ezydencji irlandz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logo"/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3276720" y="6165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5"/>
          <a:stretch/>
        </p:blipFill>
        <p:spPr>
          <a:xfrm>
            <a:off x="0" y="2286000"/>
            <a:ext cx="5357880" cy="3500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3357720" y="1214280"/>
            <a:ext cx="65005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dtytuł 2"/>
          <p:cNvSpPr/>
          <p:nvPr/>
        </p:nvSpPr>
        <p:spPr>
          <a:xfrm>
            <a:off x="2143080" y="1357200"/>
            <a:ext cx="70009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uteczna i sprawdzona struktura organizacyj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az elastyczne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bre relacje z Komisją oparte na zaangażowaniu Stałego Przedstawicielst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miejętność budowania uniwersalnych priorytetów akceptowanych przez Komisję i kraje członkowskie, odzwierciedlających interes narod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6"/>
          <a:stretch/>
        </p:blipFill>
        <p:spPr>
          <a:xfrm>
            <a:off x="8334360" y="285840"/>
            <a:ext cx="809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Czy małym krajom łatwiej jest przygotować dobrą prezydencję?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Mają mniej interesów do obrony – stąd łatwiej być im neutralnym mediato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Wybierają raczej żmudne poszukiwanie kompromisów zamiast prężenia muskuł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Ograniczony rozmiar administracji wymusza bliską współpracę z instytucjami 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Źródło: Lucia Quaglia, Edward Moxon-Browne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What Makes a Good EU Presidency? Italy and Ireland Compared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ournal of Common Market Studies, 44/2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8172360" y="285840"/>
            <a:ext cx="809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ontekst polityczny prezydencji irlandzkiej styczeń-czerwiec 2004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5075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egocjacje nad Traktatem Konstytucyj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rzyjęcie 10 nowych członk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Konieczność rewizji Strategii Lizbońsk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owa Perspektywa Finans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Wybory do PE – „gorączka legislacyjn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4"/>
          <a:stretch/>
        </p:blipFill>
        <p:spPr>
          <a:xfrm>
            <a:off x="8172360" y="285840"/>
            <a:ext cx="809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iorytety prezydencji 2004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Europeans – Working Together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28760" y="2286000"/>
            <a:ext cx="8291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Rozszerzenie i Nowe Sąsiedz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racując razem dla wzros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Bezpieczna Unia: wzmocnienie Obszaru Wolności, Sprawiedliwości i Bezpieczeńst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Globalne zaangażow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4"/>
          <a:stretch/>
        </p:blipFill>
        <p:spPr>
          <a:xfrm>
            <a:off x="8101080" y="260280"/>
            <a:ext cx="8096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Struktura organizacyjna przygotowa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85840" y="2143080"/>
            <a:ext cx="8362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Wiodąca rola MSZ współpracującego z kancelarią Taoisecha i Stałym Przedstawicielstwem w Bruks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Międzyresortowy Komitet ds. Koordynacji Prezydenc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Międzyresortowa Grupa ds. Planowania Administracyj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82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8155080" y="285840"/>
            <a:ext cx="809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:\Users\dominika\Desktop\leonardo_rgb.jpg"/>
          <p:cNvPicPr/>
          <p:nvPr/>
        </p:nvPicPr>
        <p:blipFill>
          <a:blip r:embed="rId1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8334360" y="214200"/>
            <a:ext cx="80964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epartment of Social Protection (DS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9680" y="150012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519200"/>
                <a:tab algn="l" pos="3038400"/>
                <a:tab algn="l" pos="4557600"/>
                <a:tab algn="l" pos="6076800"/>
                <a:tab algn="l" pos="7596360"/>
                <a:tab algn="l" pos="9115560"/>
                <a:tab algn="l" pos="106347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2 piony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519200"/>
                <a:tab algn="l" pos="3038400"/>
                <a:tab algn="l" pos="4557600"/>
                <a:tab algn="l" pos="6076800"/>
                <a:tab algn="l" pos="7596360"/>
                <a:tab algn="l" pos="9115560"/>
                <a:tab algn="l" pos="106347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Aireacht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– formułowanie polityki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bezpieczenia społeczn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519200"/>
                <a:tab algn="l" pos="3038400"/>
                <a:tab algn="l" pos="4557600"/>
                <a:tab algn="l" pos="6076800"/>
                <a:tab algn="l" pos="7596360"/>
                <a:tab algn="l" pos="9115560"/>
                <a:tab algn="l" pos="106347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Executive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– zarządzanie systemem świadczeń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połecz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519200"/>
                <a:tab algn="l" pos="3038400"/>
                <a:tab algn="l" pos="4557600"/>
                <a:tab algn="l" pos="6076800"/>
                <a:tab algn="l" pos="7596360"/>
                <a:tab algn="l" pos="9115560"/>
                <a:tab algn="l" pos="106347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EU / International Unit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– sprawy unijne, międzynarodowe, </a:t>
            </a:r>
            <a:r>
              <a:rPr b="1" lang="pl-PL" sz="2200" spc="-1" strike="noStrike">
                <a:solidFill>
                  <a:srgbClr val="376092"/>
                </a:solidFill>
                <a:latin typeface="Arial"/>
              </a:rPr>
              <a:t>prezydencja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zewodniczenie nieformalnym grupom roboczy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519200"/>
                <a:tab algn="l" pos="3038400"/>
                <a:tab algn="l" pos="4557600"/>
                <a:tab algn="l" pos="6076800"/>
                <a:tab algn="l" pos="7596360"/>
                <a:tab algn="l" pos="9115560"/>
                <a:tab algn="l" pos="106347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Szkolenia: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Centre for Management and Organizational Development (CMOD), Department of Fina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19200"/>
                <a:tab algn="l" pos="3038400"/>
                <a:tab algn="l" pos="4557600"/>
                <a:tab algn="l" pos="6076800"/>
                <a:tab algn="l" pos="7596360"/>
                <a:tab algn="l" pos="9115560"/>
                <a:tab algn="l" pos="1063476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Decentralizacja urzędu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(ok. 5000 pracowników w 7 miastach,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62% pracowników poza Dubline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519200"/>
                <a:tab algn="l" pos="3038400"/>
                <a:tab algn="l" pos="4557600"/>
                <a:tab algn="l" pos="6076800"/>
                <a:tab algn="l" pos="7596360"/>
                <a:tab algn="l" pos="911556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91" name="pole tekstowe 7"/>
          <p:cNvSpPr/>
          <p:nvPr/>
        </p:nvSpPr>
        <p:spPr>
          <a:xfrm>
            <a:off x="3286080" y="6489720"/>
            <a:ext cx="35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8334360" y="285840"/>
            <a:ext cx="809640" cy="838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dania DSP a priorytety prezyden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1714680"/>
            <a:ext cx="83296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lityka społeczna Unii Europejski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petencje wewnętrzne państw członkowsk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ordynacja i wspólne regulacje w zakresie koniecznym dla funkcjonowania jednolitego ryn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reformowana Strategia Lizbońs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unowocześnienie systemów zabezpieczenia społecznego, spójność społecz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logo"/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97" name="pole tekstowe 7"/>
          <p:cNvSpPr/>
          <p:nvPr/>
        </p:nvSpPr>
        <p:spPr>
          <a:xfrm>
            <a:off x="3276720" y="6165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8334360" y="285840"/>
            <a:ext cx="809640" cy="838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siągnięcia DSP podczas prezyden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760" y="142884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miana </a:t>
            </a: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rozporządzenia Rady nr 1408/71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dotyczącego praw socjalnych pracowników, osób samozatrudnionych i ich rodzin, przemieszczających się na terenie Unii Europejskiej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Wprowadzenie na agendę europejską </a:t>
            </a: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tematyki rodziny i polityki rodzinnej w kontekście demograficzny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Walka z biedą i wykluczeniem społecznym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 jako cel wszystkich dotychczasowych irlandzkich prezydencji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Wprowadzenie wraz z Department of Health and Children </a:t>
            </a: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Europejskiej Karty Ubezpieczenia Zdrowotneg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logo"/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7"/>
          <p:cNvSpPr/>
          <p:nvPr/>
        </p:nvSpPr>
        <p:spPr>
          <a:xfrm>
            <a:off x="3276720" y="61657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C:\Users\dominika\Desktop\leonardo_rgb.jpg"/>
          <p:cNvPicPr/>
          <p:nvPr/>
        </p:nvPicPr>
        <p:blipFill>
          <a:blip r:embed="rId1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8334360" y="285840"/>
            <a:ext cx="809640" cy="838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a i konferencje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rganizowane przez DS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9680" y="1714680"/>
            <a:ext cx="83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alwa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nieformalne spotkanie ministrów zatrudnienia, spraw społecznych i zdrowia oraz wyższych urzędników europej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undor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konferencja poświęcona sprawom migracj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udapesz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konferencja poświęcona przyjęciu nowej wersji rozporządzenia Rady nr 1408/7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ublin Castl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nferencja poświęcona sprawom rodziny i kwestiom demograficzny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ruksel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konferencja i warsztaty „Ludz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świadczający ubóstwa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7"/>
          <p:cNvSpPr/>
          <p:nvPr/>
        </p:nvSpPr>
        <p:spPr>
          <a:xfrm>
            <a:off x="3419640" y="6308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14:13Z</dcterms:created>
  <dc:creator>dominika</dc:creator>
  <dc:description/>
  <dc:language>en-US</dc:language>
  <cp:lastModifiedBy>Moni</cp:lastModifiedBy>
  <dcterms:modified xsi:type="dcterms:W3CDTF">2010-07-16T05:53:38Z</dcterms:modified>
  <cp:revision>86</cp:revision>
  <dc:subject/>
  <dc:title>Slajd 1</dc:title>
</cp:coreProperties>
</file>