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29D-3794-47A5-A3D7-030EDDB306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958-066D-42DD-9F71-F9D1BAFC0A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4CA-FC7B-4AF8-A5B1-77359D39D0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D59F-F155-4D65-B775-A20CEC50F9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5B2E-EB8A-4A8F-9F84-B0A0BABF7F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953-FAB8-43E9-AC44-00D04C7EC3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94D9-F2BE-4B34-A18A-FAC0BD551E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D3FA-5236-4BF2-9847-2160824B57D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5279-B906-4003-B3F8-23821A5696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B11-63CC-4165-AF88-29176EAF95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0121-95B7-45B0-9C69-526656D14E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AFD-E01E-4F5B-A8C2-E69B24D382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6C2-8A5E-47EE-AB89-4C37DA73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444-415D-421E-BF98-CC00202D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AE8-F936-4D40-B240-C1F0A470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2E1-E3DB-434A-A2FC-73276D3D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20B-72EF-4AA9-972E-04FB6392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19F-D244-4541-AC00-EFB317E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96F-8CD7-4E2F-808B-48D4EFEF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925-A6AF-4288-B8E9-1D4E1AA6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E1D-0A95-4488-BE55-925F5196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B73-1391-4D46-A4DA-EAE29EA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5B2-4F49-4E98-A00A-C59AA4CE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5D9-F0A5-4BA2-88CD-969D2D42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9ED7-0E60-43EE-8C47-CBA26F5A4F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gif"/><Relationship Id="rId6" Type="http://schemas.openxmlformats.org/officeDocument/2006/relationships/hyperlink" Target="http://www.cabinet-office.gsi.gov.uk/euro/UKPres/default.html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oświadczenia Prezydencji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ielkiej Brytanii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200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898989"/>
                </a:solidFill>
                <a:latin typeface="Calibri"/>
              </a:rPr>
              <a:t>Projekt został zrealizowany przy wsparciu finansowym Komisji Europejskiej w ramach programu „Uczenie się przez całe życie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6227640" y="364500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ichał Stęp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XIX Promo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Union_Jack"/>
          <p:cNvPicPr/>
          <p:nvPr/>
        </p:nvPicPr>
        <p:blipFill>
          <a:blip r:embed="rId5"/>
          <a:stretch/>
        </p:blipFill>
        <p:spPr>
          <a:xfrm>
            <a:off x="4932360" y="3444840"/>
            <a:ext cx="115236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eu2005LogoSm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71640" y="342900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ezydencja U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Lekcje dla następ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utralność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angażowanie kluczowych interesari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i logisty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lastycz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nsorowanie działa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łumacz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wiele innych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4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teacher"/>
          <p:cNvPicPr/>
          <p:nvPr/>
        </p:nvPicPr>
        <p:blipFill>
          <a:blip r:embed="rId4"/>
          <a:stretch/>
        </p:blipFill>
        <p:spPr>
          <a:xfrm>
            <a:off x="5291280" y="2749680"/>
            <a:ext cx="2743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ziękuj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898989"/>
                </a:solidFill>
                <a:latin typeface="Calibri"/>
              </a:rPr>
              <a:t>Projekt został zrealizowany przy wsparciu finansowym Komisji Europejskiej w ramach programu „Uczenie się przez całe życie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2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rezydencja 2005 – nowe wyzwa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1140176"/>
          <p:cNvPicPr/>
          <p:nvPr/>
        </p:nvPicPr>
        <p:blipFill>
          <a:blip r:embed="rId4"/>
          <a:stretch/>
        </p:blipFill>
        <p:spPr>
          <a:xfrm>
            <a:off x="3059280" y="1916280"/>
            <a:ext cx="317808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ygotowania do Prezydencji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U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Organizacja i logisty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ydencja „mieszan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teria doboru miejsc spotkań w Wielkiej Bryta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mocja i wydarzenia towarzyszą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finansowa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British_Isles-Wenschow800p"/>
          <p:cNvPicPr/>
          <p:nvPr/>
        </p:nvPicPr>
        <p:blipFill>
          <a:blip r:embed="rId4"/>
          <a:stretch/>
        </p:blipFill>
        <p:spPr>
          <a:xfrm>
            <a:off x="5076720" y="1773360"/>
            <a:ext cx="319716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ygotowania do Prezydencji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U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ioryte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c0504d"/>
                </a:solidFill>
                <a:latin typeface="Arial"/>
              </a:rPr>
              <a:t>Nowa Perspektywa Finansowa (2007-13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formy ekonom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ezpieczeństwo i stabilnoś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ola Europy w świe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826920" y="1989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ygotowania do Prezydencji U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Fina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łożenia finansowe dla Prezyden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cena wykorzystania budże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pounds"/>
          <p:cNvPicPr/>
          <p:nvPr/>
        </p:nvPicPr>
        <p:blipFill>
          <a:blip r:embed="rId4"/>
          <a:stretch/>
        </p:blipFill>
        <p:spPr>
          <a:xfrm>
            <a:off x="571680" y="2433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gotowania do Prezydencj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Department for Transport and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3573000"/>
            <a:ext cx="82915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rtfolio ministerst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acje Rady które swoim zakresem działań obejmowały zakres działań D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ndeksdti"/>
          <p:cNvPicPr/>
          <p:nvPr/>
        </p:nvPicPr>
        <p:blipFill>
          <a:blip r:embed="rId4"/>
          <a:stretch/>
        </p:blipFill>
        <p:spPr>
          <a:xfrm>
            <a:off x="3851280" y="2205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ygotowania do Prezydencji DTI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ioryte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mocja zatrudn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prawa regulacji prawnych (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etter regulation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twarta na zewnątrz Eur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zmocnienie potencjału w sferze B+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westie funduszy strukturalnych – określone jako prawdopodobne ze względu na negocjacje budżet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95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ygotowanie do Prezydencji DTI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Zarządzanie Zasobami Ludzk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korpusu Prezydencji w ramach D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żet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cena działań podejmowanych w D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ezydencja UK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Oce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widzialna Prezydencj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kce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raż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40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 only pity about the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d of the UK Presidency is that presumably it means we are closer to the next one…”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[European Voice, Jan 0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logo"/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0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14:13Z</dcterms:created>
  <dc:creator>dominika</dc:creator>
  <dc:description/>
  <dc:language>en-US</dc:language>
  <cp:lastModifiedBy>KSAP</cp:lastModifiedBy>
  <dcterms:modified xsi:type="dcterms:W3CDTF">2010-07-16T06:41:21Z</dcterms:modified>
  <cp:revision>15</cp:revision>
  <dc:subject/>
  <dc:title>Slajd 1</dc:title>
</cp:coreProperties>
</file>