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BED7-4627-4C5E-BD4F-870D8AC4F50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85DA-2E28-41AC-9D29-383C1146484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3738-F6CD-4A6C-9348-54321093084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FC19-2658-4DE4-B55B-CCCAC49AC80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DFC4-C0A3-4DCE-BE03-1AA009D1191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47C0-08CC-4D63-A449-CD61F88EA5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403F-CFB7-4A86-88E8-3C65AB2EDA7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6719-36D4-4D34-A48D-0F26EE64BA2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A4A7-0057-4601-A6F0-B3DE0248158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3361-3AB8-44B8-BA83-A9162D58CC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F5B3-978E-4E33-A511-567985FEDA1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7D12-55A1-4443-9F6B-7BCD7EE1C3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090B-F574-4793-8817-A891D770181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8062-FE76-482A-ABF1-02BF18A72E0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ymbol zastępczy stop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5C2-7F7D-4F7C-B4E0-5D84EECB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917-B99C-44FA-904A-5FCCD36D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258-398D-49C0-BF51-8701226E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878-ECBC-491D-8DC8-18C0B93D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F2D-D379-41BA-AAAD-AFF723A0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DB8-5778-4048-BE81-406065CD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589-9ABC-428E-AEA2-3563AFBE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21F-F773-4F3C-A550-8567DF8F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64D-6428-4859-9497-3238EB65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D5A-A7EF-4DB7-80FE-10BF1D11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F16-D6A0-49E3-947C-AB72058F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E4B-DA29-45D6-A2E2-573DF233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4D56-C83D-42B9-A4AF-0FF1001D2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lityka publiczn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 sferze integracji Polsk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ze strefą EU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98989"/>
                </a:solidFill>
                <a:latin typeface="Calibri"/>
              </a:rPr>
              <a:t>Projekt współfinansowany przez Unię Europejską</a:t>
            </a:r>
            <a:br>
              <a:rPr sz="2300"/>
            </a:br>
            <a:r>
              <a:rPr b="0" lang="en-US" sz="2300" spc="-1" strike="noStrike">
                <a:solidFill>
                  <a:srgbClr val="898989"/>
                </a:solidFill>
                <a:latin typeface="Calibri"/>
              </a:rPr>
              <a:t>w ramach Europejskiego Funduszu Społecznego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dominika\Desktop\kapital_ludzki NSS.gif"/>
          <p:cNvPicPr/>
          <p:nvPr/>
        </p:nvPicPr>
        <p:blipFill>
          <a:blip r:embed="rId1"/>
          <a:stretch/>
        </p:blipFill>
        <p:spPr>
          <a:xfrm>
            <a:off x="0" y="5805360"/>
            <a:ext cx="2827440" cy="90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dominika\Desktop\UE+EFS-logo.jpg"/>
          <p:cNvPicPr/>
          <p:nvPr/>
        </p:nvPicPr>
        <p:blipFill>
          <a:blip r:embed="rId2"/>
          <a:stretch/>
        </p:blipFill>
        <p:spPr>
          <a:xfrm>
            <a:off x="6012000" y="5702400"/>
            <a:ext cx="3132000" cy="115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ogo"/>
          <p:cNvPicPr/>
          <p:nvPr/>
        </p:nvPicPr>
        <p:blipFill>
          <a:blip r:embed="rId3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napis"/>
          <p:cNvPicPr/>
          <p:nvPr/>
        </p:nvPicPr>
        <p:blipFill>
          <a:blip r:embed="rId4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716280"/>
            <a:ext cx="91440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racowali: Kamil Bobek, Łukasz Jachimowicz, Michał Reczek, Monika Strycharz, Dominik Sybilski, Marcin Wiatr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iekun grupy: Małgorzata Znoykowicz-Wierzbick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lityka publiczna w sferze integracji Polski ze strefą E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dominika\Desktop\kapital_ludzki NSS.gif"/>
          <p:cNvPicPr/>
          <p:nvPr/>
        </p:nvPicPr>
        <p:blipFill>
          <a:blip r:embed="rId1"/>
          <a:stretch/>
        </p:blipFill>
        <p:spPr>
          <a:xfrm>
            <a:off x="0" y="5805360"/>
            <a:ext cx="2827440" cy="908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dominika\Desktop\UE+EFS-logo.jpg"/>
          <p:cNvPicPr/>
          <p:nvPr/>
        </p:nvPicPr>
        <p:blipFill>
          <a:blip r:embed="rId2"/>
          <a:stretch/>
        </p:blipFill>
        <p:spPr>
          <a:xfrm>
            <a:off x="6012000" y="5702400"/>
            <a:ext cx="3132000" cy="1155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logo"/>
          <p:cNvPicPr/>
          <p:nvPr/>
        </p:nvPicPr>
        <p:blipFill>
          <a:blip r:embed="rId3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napis"/>
          <p:cNvPicPr/>
          <p:nvPr/>
        </p:nvPicPr>
        <p:blipFill>
          <a:blip r:embed="rId4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17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odtytuł 2"/>
          <p:cNvSpPr/>
          <p:nvPr/>
        </p:nvSpPr>
        <p:spPr>
          <a:xfrm>
            <a:off x="468360" y="1341360"/>
            <a:ext cx="8207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nioski final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zczególną uwagę należy poświęcić aspektowi społecznemu wprowadzenia euro, który zadecyduje o akceptacji wspólnej waluty przez Polak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zwykle istotne będzie właściwe wykorzystanie doświadczeń krajów, które proces przyjęcia euro mają już za sob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prowadzenie wspólnej waluty stanie się dla Polski źródłem wielu długofalowych korzyści gospodarczych i pozwoli w pełni wykorzystać szanse, jakie daje członkowstwo w Unii Europej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lityka publiczna w sferze integracji Polski ze strefą E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dominika\Desktop\kapital_ludzki NSS.gif"/>
          <p:cNvPicPr/>
          <p:nvPr/>
        </p:nvPicPr>
        <p:blipFill>
          <a:blip r:embed="rId1"/>
          <a:stretch/>
        </p:blipFill>
        <p:spPr>
          <a:xfrm>
            <a:off x="0" y="5805360"/>
            <a:ext cx="2827440" cy="90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dominika\Desktop\UE+EFS-logo.jpg"/>
          <p:cNvPicPr/>
          <p:nvPr/>
        </p:nvPicPr>
        <p:blipFill>
          <a:blip r:embed="rId2"/>
          <a:stretch/>
        </p:blipFill>
        <p:spPr>
          <a:xfrm>
            <a:off x="6012000" y="5702400"/>
            <a:ext cx="3132000" cy="1155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"/>
          <p:cNvPicPr/>
          <p:nvPr/>
        </p:nvPicPr>
        <p:blipFill>
          <a:blip r:embed="rId3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napis"/>
          <p:cNvPicPr/>
          <p:nvPr/>
        </p:nvPicPr>
        <p:blipFill>
          <a:blip r:embed="rId4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24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odtytuł 2"/>
          <p:cNvSpPr/>
          <p:nvPr/>
        </p:nvSpPr>
        <p:spPr>
          <a:xfrm>
            <a:off x="468360" y="1700280"/>
            <a:ext cx="7991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dbyte spotka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tkanie z prof. Witoldem Koz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kim, wiceprezesem NBP, odpowiedzialnym za pra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Biura ds. Integracji ze Stre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Euro, 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 stanu przygotow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do wprowadzenia euro w Polsce z perspektywy NBP (24 lipca 2009 r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tkanie z pracownikami Biura 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omocnika R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u ds. Wprowadzenia Euro na temat stanu przygotow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administracji r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owej do wprowadzenia euro (28 wr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a 2009 r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lityka publiczna w sferze integracji Polski ze strefą E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Users\dominika\Desktop\kapital_ludzki NSS.gif"/>
          <p:cNvPicPr/>
          <p:nvPr/>
        </p:nvPicPr>
        <p:blipFill>
          <a:blip r:embed="rId1"/>
          <a:stretch/>
        </p:blipFill>
        <p:spPr>
          <a:xfrm>
            <a:off x="0" y="5805360"/>
            <a:ext cx="2827440" cy="908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dominika\Desktop\UE+EFS-logo.jpg"/>
          <p:cNvPicPr/>
          <p:nvPr/>
        </p:nvPicPr>
        <p:blipFill>
          <a:blip r:embed="rId2"/>
          <a:stretch/>
        </p:blipFill>
        <p:spPr>
          <a:xfrm>
            <a:off x="6012000" y="5702400"/>
            <a:ext cx="3132000" cy="1155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ogo"/>
          <p:cNvPicPr/>
          <p:nvPr/>
        </p:nvPicPr>
        <p:blipFill>
          <a:blip r:embed="rId3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pis"/>
          <p:cNvPicPr/>
          <p:nvPr/>
        </p:nvPicPr>
        <p:blipFill>
          <a:blip r:embed="rId4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odtytuł 2"/>
          <p:cNvSpPr/>
          <p:nvPr/>
        </p:nvSpPr>
        <p:spPr>
          <a:xfrm>
            <a:off x="468360" y="1700280"/>
            <a:ext cx="8207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Wizyty studyjne w Londynie i Bruks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ase stud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lityka Wielkiej Brytanii wobec integracji walut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erspektywa przyj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ia przez Polsk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euro w ocenie Komisji Europejski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lityka publiczna w sferze integracji Polski ze strefą E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C:\Users\dominika\Desktop\kapital_ludzki NSS.gif"/>
          <p:cNvPicPr/>
          <p:nvPr/>
        </p:nvPicPr>
        <p:blipFill>
          <a:blip r:embed="rId1"/>
          <a:stretch/>
        </p:blipFill>
        <p:spPr>
          <a:xfrm>
            <a:off x="0" y="5805360"/>
            <a:ext cx="2827440" cy="908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dominika\Desktop\UE+EFS-logo.jpg"/>
          <p:cNvPicPr/>
          <p:nvPr/>
        </p:nvPicPr>
        <p:blipFill>
          <a:blip r:embed="rId2"/>
          <a:stretch/>
        </p:blipFill>
        <p:spPr>
          <a:xfrm>
            <a:off x="6012000" y="5702400"/>
            <a:ext cx="3132000" cy="1155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logo"/>
          <p:cNvPicPr/>
          <p:nvPr/>
        </p:nvPicPr>
        <p:blipFill>
          <a:blip r:embed="rId3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napis"/>
          <p:cNvPicPr/>
          <p:nvPr/>
        </p:nvPicPr>
        <p:blipFill>
          <a:blip r:embed="rId4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odtytuł 2"/>
          <p:cNvSpPr/>
          <p:nvPr/>
        </p:nvSpPr>
        <p:spPr>
          <a:xfrm>
            <a:off x="468360" y="1700280"/>
            <a:ext cx="8207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ziękuje Państwu za uwag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pracowali: Łukasz Jachimowicz i Michał Recz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lityka publiczna w sferze integracji Polski ze strefą E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8920" y="2060640"/>
            <a:ext cx="869796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pekty polityki publicznej wprowadzenia euro w Pols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239920" indent="-3585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konomi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239920" indent="-3585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wno – instytucjonal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239920" indent="-3585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łeczno – polit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dominika\Desktop\kapital_ludzki NSS.gif"/>
          <p:cNvPicPr/>
          <p:nvPr/>
        </p:nvPicPr>
        <p:blipFill>
          <a:blip r:embed="rId1"/>
          <a:stretch/>
        </p:blipFill>
        <p:spPr>
          <a:xfrm>
            <a:off x="0" y="5805360"/>
            <a:ext cx="2827440" cy="90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dominika\Desktop\UE+EFS-logo.jpg"/>
          <p:cNvPicPr/>
          <p:nvPr/>
        </p:nvPicPr>
        <p:blipFill>
          <a:blip r:embed="rId2"/>
          <a:stretch/>
        </p:blipFill>
        <p:spPr>
          <a:xfrm>
            <a:off x="6012000" y="5702400"/>
            <a:ext cx="3132000" cy="1155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logo"/>
          <p:cNvPicPr/>
          <p:nvPr/>
        </p:nvPicPr>
        <p:blipFill>
          <a:blip r:embed="rId3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napis"/>
          <p:cNvPicPr/>
          <p:nvPr/>
        </p:nvPicPr>
        <p:blipFill>
          <a:blip r:embed="rId4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62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lityka publiczna w sferze integracji Polski ze strefą E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dominika\Desktop\kapital_ludzki NSS.gif"/>
          <p:cNvPicPr/>
          <p:nvPr/>
        </p:nvPicPr>
        <p:blipFill>
          <a:blip r:embed="rId1"/>
          <a:stretch/>
        </p:blipFill>
        <p:spPr>
          <a:xfrm>
            <a:off x="0" y="5805360"/>
            <a:ext cx="2827440" cy="908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dominika\Desktop\UE+EFS-logo.jpg"/>
          <p:cNvPicPr/>
          <p:nvPr/>
        </p:nvPicPr>
        <p:blipFill>
          <a:blip r:embed="rId2"/>
          <a:stretch/>
        </p:blipFill>
        <p:spPr>
          <a:xfrm>
            <a:off x="6012000" y="5702400"/>
            <a:ext cx="3132000" cy="1155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logo"/>
          <p:cNvPicPr/>
          <p:nvPr/>
        </p:nvPicPr>
        <p:blipFill>
          <a:blip r:embed="rId3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napis"/>
          <p:cNvPicPr/>
          <p:nvPr/>
        </p:nvPicPr>
        <p:blipFill>
          <a:blip r:embed="rId4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dtytuł 2"/>
          <p:cNvSpPr/>
          <p:nvPr/>
        </p:nvSpPr>
        <p:spPr>
          <a:xfrm>
            <a:off x="468360" y="1484280"/>
            <a:ext cx="8207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ryteria konwergencji nominaln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ryterium stabilności cen przewidu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że średnia 12-miesięczna rocznych stóp inflacji w danym kraju nie może przekraczać o więcej niż 1,5 punktu procentowego średniej 12-miesięcznej rocznych stóp inflacji z trzech krajów członkowskich o najbardziej stabilnych cen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ryterium długoterminowej stopy procentowej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zakłada, że w okresie jednego roku poprzedzającego moment dokonywania oceny wypełnienia kryterium średnia długoterminowa stopa procentowa nie może być wyższa o więcej niż 2 punkty procentowe od średniej z analogicznych stóp procentowych w trzech krajach o najbardziej stabilnych cen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lityka publiczna w sferze integracji Polski ze strefą E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dominika\Desktop\kapital_ludzki NSS.gif"/>
          <p:cNvPicPr/>
          <p:nvPr/>
        </p:nvPicPr>
        <p:blipFill>
          <a:blip r:embed="rId1"/>
          <a:stretch/>
        </p:blipFill>
        <p:spPr>
          <a:xfrm>
            <a:off x="0" y="5805360"/>
            <a:ext cx="2827440" cy="908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dominika\Desktop\UE+EFS-logo.jpg"/>
          <p:cNvPicPr/>
          <p:nvPr/>
        </p:nvPicPr>
        <p:blipFill>
          <a:blip r:embed="rId2"/>
          <a:stretch/>
        </p:blipFill>
        <p:spPr>
          <a:xfrm>
            <a:off x="6012000" y="5702400"/>
            <a:ext cx="3132000" cy="1155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logo"/>
          <p:cNvPicPr/>
          <p:nvPr/>
        </p:nvPicPr>
        <p:blipFill>
          <a:blip r:embed="rId3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napis"/>
          <p:cNvPicPr/>
          <p:nvPr/>
        </p:nvPicPr>
        <p:blipFill>
          <a:blip r:embed="rId4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75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odtytuł 2"/>
          <p:cNvSpPr/>
          <p:nvPr/>
        </p:nvSpPr>
        <p:spPr>
          <a:xfrm>
            <a:off x="468360" y="1197000"/>
            <a:ext cx="8207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ryteria konwergencji nominaln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ryterium stabilności polityki fiskalnej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dnosi się do kraju członkowskiego, który, w momencie dokonywania oceny, nie może objęty być procedurą nadmiernego deficytu, zdefiniowaną w artykule 104 TWE. Dyscyplina finansów publicznych sprawdzana jest za pomocą dwóch kryteriów: relacji długu instytucji rządowych i samorządowych do PKB oraz relacji rzeczywistego deficytu publicznego do PK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ryterium stabilnego kursu walutoweg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zakłada, że przez okres co najmniej 2 lat, przed dokonaniem oceny przez KE i EBC, wahania kursu waluty krajowej w stosunku do euro muszą mieścić się w normalnym przedziale wahań wokół kursu centralnego. Dodatkowo, kurs waluty krajowej nie może podlegać silnym napięciom, a także dewaluacji dokonanej przez władze krajowe w odniesieniu do waluty innego państwa członkowski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lityka publiczna w sferze integracji Polski ze strefą E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dominika\Desktop\kapital_ludzki NSS.gif"/>
          <p:cNvPicPr/>
          <p:nvPr/>
        </p:nvPicPr>
        <p:blipFill>
          <a:blip r:embed="rId1"/>
          <a:stretch/>
        </p:blipFill>
        <p:spPr>
          <a:xfrm>
            <a:off x="0" y="5805360"/>
            <a:ext cx="2827440" cy="90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dominika\Desktop\UE+EFS-logo.jpg"/>
          <p:cNvPicPr/>
          <p:nvPr/>
        </p:nvPicPr>
        <p:blipFill>
          <a:blip r:embed="rId2"/>
          <a:stretch/>
        </p:blipFill>
        <p:spPr>
          <a:xfrm>
            <a:off x="6012000" y="5702400"/>
            <a:ext cx="3132000" cy="1155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logo"/>
          <p:cNvPicPr/>
          <p:nvPr/>
        </p:nvPicPr>
        <p:blipFill>
          <a:blip r:embed="rId3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napis"/>
          <p:cNvPicPr/>
          <p:nvPr/>
        </p:nvPicPr>
        <p:blipFill>
          <a:blip r:embed="rId4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82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odtytuł 2"/>
          <p:cNvSpPr/>
          <p:nvPr/>
        </p:nvSpPr>
        <p:spPr>
          <a:xfrm>
            <a:off x="468360" y="1197000"/>
            <a:ext cx="8207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789200"/>
                <a:tab algn="l" pos="2146320"/>
                <a:tab algn="l" pos="376380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szty integracji ze strefą eu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89200"/>
                <a:tab algn="l" pos="2146320"/>
                <a:tab algn="l" pos="376380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szty krótkookresowe integr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1789200"/>
                <a:tab algn="l" pos="2146320"/>
                <a:tab algn="l" pos="376380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grożenia związane z wypełnieniem kryteriów konwergen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1789200"/>
                <a:tab algn="l" pos="2146320"/>
                <a:tab algn="l" pos="376380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rótkookresowe efekty cen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1789200"/>
                <a:tab algn="l" pos="2146320"/>
                <a:tab algn="l" pos="376380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szty wprowadzenia euro do obie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1789200"/>
                <a:tab algn="l" pos="2146320"/>
                <a:tab algn="l" pos="376380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szty średniookresowe integracj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1789200"/>
                <a:tab algn="l" pos="2146320"/>
                <a:tab algn="l" pos="376380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eoptymalny kurs konwers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1789200"/>
                <a:tab algn="l" pos="2146320"/>
                <a:tab algn="l" pos="376380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yzyko pogorszenia konkurencyj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1789200"/>
                <a:tab algn="l" pos="2146320"/>
                <a:tab algn="l" pos="376380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óżnice inflacyj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1789200"/>
                <a:tab algn="l" pos="2146320"/>
                <a:tab algn="l" pos="376380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yzyko wzrostu cen artykuł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1789200"/>
                <a:tab algn="l" pos="2146320"/>
                <a:tab algn="l" pos="376380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szty długookresowe integracj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1789200"/>
                <a:tab algn="l" pos="2146320"/>
                <a:tab algn="l" pos="376380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rata niezależnej polityki pienięż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1789200"/>
                <a:tab algn="l" pos="2146320"/>
                <a:tab algn="l" pos="376380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rata niezależności kursow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lityka publiczna w sferze integracji Polski ze strefą E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dominika\Desktop\kapital_ludzki NSS.gif"/>
          <p:cNvPicPr/>
          <p:nvPr/>
        </p:nvPicPr>
        <p:blipFill>
          <a:blip r:embed="rId1"/>
          <a:stretch/>
        </p:blipFill>
        <p:spPr>
          <a:xfrm>
            <a:off x="0" y="5805360"/>
            <a:ext cx="2827440" cy="90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dominika\Desktop\UE+EFS-logo.jpg"/>
          <p:cNvPicPr/>
          <p:nvPr/>
        </p:nvPicPr>
        <p:blipFill>
          <a:blip r:embed="rId2"/>
          <a:stretch/>
        </p:blipFill>
        <p:spPr>
          <a:xfrm>
            <a:off x="6012000" y="5702400"/>
            <a:ext cx="31320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logo"/>
          <p:cNvPicPr/>
          <p:nvPr/>
        </p:nvPicPr>
        <p:blipFill>
          <a:blip r:embed="rId3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napis"/>
          <p:cNvPicPr/>
          <p:nvPr/>
        </p:nvPicPr>
        <p:blipFill>
          <a:blip r:embed="rId4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89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odtytuł 2"/>
          <p:cNvSpPr/>
          <p:nvPr/>
        </p:nvSpPr>
        <p:spPr>
          <a:xfrm>
            <a:off x="468360" y="1341360"/>
            <a:ext cx="82072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Korzyści integracji ze strefą eu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orz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i bezp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dnie z integracj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7480" indent="-282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dukcja ryzyka kursowego i kosztów transakcyj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7480" indent="-282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wzrost stabilności i wiarygodności makroekonomicz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7480" indent="-282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adek stóp procent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orz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i p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dnie z integrac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7480" indent="-282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nsyfikacj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wymiany handl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7480" indent="-282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wzrost inwesty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7480" indent="-282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cj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rynków finans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7480" indent="-282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wzrost PKB i dobroby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lityka publiczna w sferze integracji Polski ze strefą E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dominika\Desktop\kapital_ludzki NSS.gif"/>
          <p:cNvPicPr/>
          <p:nvPr/>
        </p:nvPicPr>
        <p:blipFill>
          <a:blip r:embed="rId1"/>
          <a:stretch/>
        </p:blipFill>
        <p:spPr>
          <a:xfrm>
            <a:off x="0" y="5805360"/>
            <a:ext cx="2827440" cy="90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dominika\Desktop\UE+EFS-logo.jpg"/>
          <p:cNvPicPr/>
          <p:nvPr/>
        </p:nvPicPr>
        <p:blipFill>
          <a:blip r:embed="rId2"/>
          <a:stretch/>
        </p:blipFill>
        <p:spPr>
          <a:xfrm>
            <a:off x="6012000" y="5702400"/>
            <a:ext cx="3132000" cy="1155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logo"/>
          <p:cNvPicPr/>
          <p:nvPr/>
        </p:nvPicPr>
        <p:blipFill>
          <a:blip r:embed="rId3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napis"/>
          <p:cNvPicPr/>
          <p:nvPr/>
        </p:nvPicPr>
        <p:blipFill>
          <a:blip r:embed="rId4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96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odtytuł 2"/>
          <p:cNvSpPr/>
          <p:nvPr/>
        </p:nvSpPr>
        <p:spPr>
          <a:xfrm>
            <a:off x="468360" y="1341360"/>
            <a:ext cx="8207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jważniejsze zmiany praw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owelizacja Konstytu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iana przepisów regulujących rolę i status NBP i Rady Polityki Pienięż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owelizacja wszelkich aktów prawnych które w swej treści odwołują się do waluty polsk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jważniejsze zmiany instytucjonal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wołanie Pełnomocnika Rządu do Spraw Wprowadzenia Euro przez Rzeczpospolitą Polsk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tworzenie w MF Biura Pełnomocnika Rządu ds. Wprowadzenia Euro przez Rzeczpospolitą Polsk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wołanie Narodowego Komitetu Koordynacyjnego ds. Euro, Rady Koordynacyjnej oraz Międzyinstytucjonalnych Zespołów Roboczych ds. Przygotowań do Wprowadzenia Euro przez Rzeczpospolitą Polsk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lityka publiczna w sferze integracji Polski ze strefą E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dominika\Desktop\kapital_ludzki NSS.gif"/>
          <p:cNvPicPr/>
          <p:nvPr/>
        </p:nvPicPr>
        <p:blipFill>
          <a:blip r:embed="rId1"/>
          <a:stretch/>
        </p:blipFill>
        <p:spPr>
          <a:xfrm>
            <a:off x="0" y="5805360"/>
            <a:ext cx="2827440" cy="90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dominika\Desktop\UE+EFS-logo.jpg"/>
          <p:cNvPicPr/>
          <p:nvPr/>
        </p:nvPicPr>
        <p:blipFill>
          <a:blip r:embed="rId2"/>
          <a:stretch/>
        </p:blipFill>
        <p:spPr>
          <a:xfrm>
            <a:off x="6012000" y="5702400"/>
            <a:ext cx="3132000" cy="1155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logo"/>
          <p:cNvPicPr/>
          <p:nvPr/>
        </p:nvPicPr>
        <p:blipFill>
          <a:blip r:embed="rId3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napis"/>
          <p:cNvPicPr/>
          <p:nvPr/>
        </p:nvPicPr>
        <p:blipFill>
          <a:blip r:embed="rId4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03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odtytuł 2"/>
          <p:cNvSpPr/>
          <p:nvPr/>
        </p:nvSpPr>
        <p:spPr>
          <a:xfrm>
            <a:off x="468360" y="1341360"/>
            <a:ext cx="8207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czno – polityczny wymiar wprowadzenia eu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46320" indent="-357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y partii politycz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46320" indent="-357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iorytety polskiej polityki zagranicz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46320" indent="-357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pinia społeczna wobec wspólnej walu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46320" indent="-357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14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 konsultacji s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cz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lityka publiczna w sferze integracji Polski ze strefą E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dominika\Desktop\kapital_ludzki NSS.gif"/>
          <p:cNvPicPr/>
          <p:nvPr/>
        </p:nvPicPr>
        <p:blipFill>
          <a:blip r:embed="rId1"/>
          <a:stretch/>
        </p:blipFill>
        <p:spPr>
          <a:xfrm>
            <a:off x="0" y="5805360"/>
            <a:ext cx="2827440" cy="90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dominika\Desktop\UE+EFS-logo.jpg"/>
          <p:cNvPicPr/>
          <p:nvPr/>
        </p:nvPicPr>
        <p:blipFill>
          <a:blip r:embed="rId2"/>
          <a:stretch/>
        </p:blipFill>
        <p:spPr>
          <a:xfrm>
            <a:off x="6012000" y="5702400"/>
            <a:ext cx="3132000" cy="1155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logo"/>
          <p:cNvPicPr/>
          <p:nvPr/>
        </p:nvPicPr>
        <p:blipFill>
          <a:blip r:embed="rId3"/>
          <a:stretch/>
        </p:blipFill>
        <p:spPr>
          <a:xfrm>
            <a:off x="179280" y="189000"/>
            <a:ext cx="157176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napis"/>
          <p:cNvPicPr/>
          <p:nvPr/>
        </p:nvPicPr>
        <p:blipFill>
          <a:blip r:embed="rId4"/>
          <a:stretch/>
        </p:blipFill>
        <p:spPr>
          <a:xfrm>
            <a:off x="2050920" y="333360"/>
            <a:ext cx="4429080" cy="18108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7"/>
          <p:cNvSpPr/>
          <p:nvPr/>
        </p:nvSpPr>
        <p:spPr>
          <a:xfrm>
            <a:off x="3276720" y="6165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ferencja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odtytuł 2"/>
          <p:cNvSpPr/>
          <p:nvPr/>
        </p:nvSpPr>
        <p:spPr>
          <a:xfrm>
            <a:off x="468360" y="1341360"/>
            <a:ext cx="8207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nioski final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prowadzenie euro w Polsce, jako polityka publiczna ma charakter w dużej mierze technicznego wyzwania, brak cykliczności i alternatywy dla proce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lska jest nadal na początkowym etapie prowadzącym do przyjęcia e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ednocześnie jednak jesteśmy już bogatsi o szczegółową i rozpisaną na konkretne działania wizję tego w jaki sposób powinna przebiegać proceduralna i techniczna strona wprowadzenia wspólnej walu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4:14:13Z</dcterms:created>
  <dc:creator>dominika</dc:creator>
  <dc:description/>
  <dc:language>en-US</dc:language>
  <cp:lastModifiedBy>Łukasz</cp:lastModifiedBy>
  <dcterms:modified xsi:type="dcterms:W3CDTF">2010-07-15T13:46:00Z</dcterms:modified>
  <cp:revision>11</cp:revision>
  <dc:subject/>
  <dc:title>Slajd 1</dc:title>
</cp:coreProperties>
</file>