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3FF0-E5F0-4020-974E-061AABBC7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38D3-C770-4839-A2FC-81D2A74E2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2CF8-0BEC-46B4-9907-EA2377CEC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B9E5-442E-4B37-9FF6-2649BED00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D6D6-491C-4365-AA96-EBD0E5774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1802-97BE-4876-A79E-C7630F166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1CC6-C43D-4847-8FFB-86CA338A0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1F8C-CF04-4562-95F8-15E5DA1A0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C9B8-FF12-4035-B0E0-85C40A2A6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A637-85AC-41EE-B5D0-1A31B18E9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C91C-1E1E-492F-8C67-2BB62A5EF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2467-0BAA-486B-8B07-EAAA04A30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BC85E-29FC-4531-A218-ECE0A8DBA56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pl-PL" sz="4000" spc="-1" strike="noStrike">
                <a:solidFill>
                  <a:srgbClr val="000000"/>
                </a:solidFill>
                <a:latin typeface="Calibri"/>
              </a:rPr>
              <a:t>Program „Rodzina na Swoim” </a:t>
            </a:r>
            <a:br>
              <a:rPr sz="4000"/>
            </a:br>
            <a:r>
              <a:rPr b="0" lang="pl-PL" sz="4000" spc="-1" strike="noStrike">
                <a:solidFill>
                  <a:srgbClr val="000000"/>
                </a:solidFill>
                <a:latin typeface="Calibri"/>
              </a:rPr>
              <a:t>jako instrument polityki mieszkaniowej państwa</a:t>
            </a:r>
            <a:br>
              <a:rPr sz="4000"/>
            </a:br>
            <a:br>
              <a:rPr sz="40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rowadzący:</a:t>
            </a:r>
            <a:br>
              <a:rPr sz="40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Konrad Kiedrzyński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Michał Koprowsk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981000"/>
            <a:ext cx="6400800" cy="48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898989"/>
                </a:solidFill>
                <a:latin typeface="Calibri"/>
              </a:rPr>
              <a:t>Konferencja Absolwentów XIX Promocji „Królowa Jadwiga”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898989"/>
                </a:solidFill>
                <a:latin typeface="Calibri"/>
              </a:rPr>
              <a:t>Warszawa 16 lipca 2010 r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1571400" cy="4762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"/>
          <p:cNvPicPr/>
          <p:nvPr/>
        </p:nvPicPr>
        <p:blipFill>
          <a:blip r:embed="rId2"/>
          <a:stretch/>
        </p:blipFill>
        <p:spPr>
          <a:xfrm>
            <a:off x="0" y="6137280"/>
            <a:ext cx="1908000" cy="6145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"/>
          <p:cNvPicPr/>
          <p:nvPr/>
        </p:nvPicPr>
        <p:blipFill>
          <a:blip r:embed="rId3"/>
          <a:stretch/>
        </p:blipFill>
        <p:spPr>
          <a:xfrm>
            <a:off x="6804000" y="5994360"/>
            <a:ext cx="2340000" cy="863640"/>
          </a:xfrm>
          <a:prstGeom prst="rect">
            <a:avLst/>
          </a:prstGeom>
          <a:ln w="0">
            <a:noFill/>
          </a:ln>
        </p:spPr>
      </p:pic>
      <p:sp>
        <p:nvSpPr>
          <p:cNvPr id="46" name="Prostokąt 6"/>
          <p:cNvSpPr/>
          <p:nvPr/>
        </p:nvSpPr>
        <p:spPr>
          <a:xfrm>
            <a:off x="2050920" y="6021360"/>
            <a:ext cx="4824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Projekt współfinansowany przez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Unię Europejską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w ramach Europejskiego Funduszu Społeczne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1571400" cy="47628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Calibri"/>
              </a:rPr>
              <a:t>Zmiany w Programie, a jego popularność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odtytuł 2"/>
          <p:cNvSpPr/>
          <p:nvPr/>
        </p:nvSpPr>
        <p:spPr>
          <a:xfrm>
            <a:off x="468360" y="6524640"/>
            <a:ext cx="82296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7f7f7f"/>
                </a:solidFill>
                <a:latin typeface="Calibri"/>
              </a:rPr>
              <a:t>Konferencja Absolwentów XIX Promocji „Królowa Jadwiga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Object 1"/>
          <p:cNvGraphicFramePr/>
          <p:nvPr/>
        </p:nvGraphicFramePr>
        <p:xfrm>
          <a:off x="971640" y="1557360"/>
          <a:ext cx="7129440" cy="43243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5" name="Object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71640" y="1557360"/>
                    <a:ext cx="7129440" cy="432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pole tekstowe 9"/>
          <p:cNvSpPr/>
          <p:nvPr/>
        </p:nvSpPr>
        <p:spPr>
          <a:xfrm>
            <a:off x="4211640" y="5373720"/>
            <a:ext cx="1297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2007-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liczba instytucji udzielających kredyty z dopłat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ysokość wskaźnika kosztu odtworzenia 1 m</a:t>
            </a:r>
            <a:r>
              <a:rPr b="0" lang="pl-PL" sz="2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powierzchn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zróżnicowanie regional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ctr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zdolność kredytow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1571400" cy="47628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9079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Czynniki wpływające na popularność Programu</a:t>
            </a: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 latach 2007-200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odtytuł 2"/>
          <p:cNvSpPr/>
          <p:nvPr/>
        </p:nvSpPr>
        <p:spPr>
          <a:xfrm>
            <a:off x="468360" y="6524640"/>
            <a:ext cx="82296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7f7f7f"/>
                </a:solidFill>
                <a:latin typeface="Calibri"/>
              </a:rPr>
              <a:t>Konferencja Absolwentów XIX Promocji „Królowa Jadwiga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1571400" cy="47628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Ministerstwo Infrastruktury opracowało projekt ustawy, która zlikwiduje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P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rogram od 2013 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W latach 2011-2012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przywrócenie mechanizmu obliczania wskaźnika referencyjnego z 2007 r.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tylko rynek pierwotny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dostępność dla jednoosobowych gospodarstw domowych (single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odtytuł 2"/>
          <p:cNvSpPr/>
          <p:nvPr/>
        </p:nvSpPr>
        <p:spPr>
          <a:xfrm>
            <a:off x="468360" y="6524640"/>
            <a:ext cx="82296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7f7f7f"/>
                </a:solidFill>
                <a:latin typeface="Calibri"/>
              </a:rPr>
              <a:t>Konferencja Absolwentów XIX Promocji „Królowa Jadwiga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0" y="213192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  <a:ea typeface="Arial Unicode MS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60948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Calibri"/>
              </a:rPr>
              <a:t>Debata i Aktualności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zwiększenie konkurencji pomiędzy bankam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referencje dla określonych grup zawodowy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referencje dla nieruchomości o wysokim poziomie efektywności energetycznej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1571400" cy="47628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ropozycje zmi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odtytuł 2"/>
          <p:cNvSpPr/>
          <p:nvPr/>
        </p:nvSpPr>
        <p:spPr>
          <a:xfrm>
            <a:off x="468360" y="6524640"/>
            <a:ext cx="82296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7f7f7f"/>
                </a:solidFill>
                <a:latin typeface="Calibri"/>
              </a:rPr>
              <a:t>Konferencja Absolwentów XIX Promocji „Królowa Jadwiga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468360" y="-171720"/>
            <a:ext cx="8229600" cy="601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Raport przygotowali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Katarzyna Królewsk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Magdalena Libud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eronika Motylewsk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Konrad Kiedrzyńsk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Michał Koprowsk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pod  kierunkiem naukowy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dr Bogusława Czarneg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3" descr=""/>
          <p:cNvPicPr/>
          <p:nvPr/>
        </p:nvPicPr>
        <p:blipFill>
          <a:blip r:embed="rId1"/>
          <a:stretch/>
        </p:blipFill>
        <p:spPr>
          <a:xfrm>
            <a:off x="0" y="6137280"/>
            <a:ext cx="1908000" cy="614520"/>
          </a:xfrm>
          <a:prstGeom prst="rect">
            <a:avLst/>
          </a:prstGeom>
          <a:ln w="0">
            <a:noFill/>
          </a:ln>
        </p:spPr>
      </p:pic>
      <p:sp>
        <p:nvSpPr>
          <p:cNvPr id="123" name="Prostokąt 4"/>
          <p:cNvSpPr/>
          <p:nvPr/>
        </p:nvSpPr>
        <p:spPr>
          <a:xfrm>
            <a:off x="2050920" y="6021360"/>
            <a:ext cx="4824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Projekt współfinansowany przez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Unię Europejską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w ramach Europejskiego Funduszu Społeczne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6804000" y="5994360"/>
            <a:ext cx="2340000" cy="8636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" descr=""/>
          <p:cNvPicPr/>
          <p:nvPr/>
        </p:nvPicPr>
        <p:blipFill>
          <a:blip r:embed="rId3"/>
          <a:stretch/>
        </p:blipFill>
        <p:spPr>
          <a:xfrm>
            <a:off x="108000" y="115920"/>
            <a:ext cx="157140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1571400" cy="4762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ROGRAM - D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odtytuł 2"/>
          <p:cNvSpPr/>
          <p:nvPr/>
        </p:nvSpPr>
        <p:spPr>
          <a:xfrm>
            <a:off x="468360" y="6524640"/>
            <a:ext cx="82296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7f7f7f"/>
                </a:solidFill>
                <a:latin typeface="Calibri"/>
              </a:rPr>
              <a:t>Konferencja Absolwentów XIX Promocji „Królowa Jadwiga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1571400" cy="47628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Zarys kwestii mieszkalnictwa w</a:t>
            </a:r>
            <a:r>
              <a:rPr b="0" lang="pl-PL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Polsce</a:t>
            </a: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Okres od 1945 do 198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Odbudow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asowa nacjonalizacj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rzekształcenie struktury społeczne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Okres po 1989 do współczesności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eszkanie stało się towar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Zmiana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form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y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finansowania i w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ł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asnośc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Zasadnicze problemy i wyzwan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pad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ek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liczby budowanych mieszka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ń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Ograniczenie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mo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ż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liwo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ś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ci sfinansowania kupna mieszkan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odtytuł 2"/>
          <p:cNvSpPr/>
          <p:nvPr/>
        </p:nvSpPr>
        <p:spPr>
          <a:xfrm>
            <a:off x="468360" y="6524640"/>
            <a:ext cx="82296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7f7f7f"/>
                </a:solidFill>
                <a:latin typeface="Calibri"/>
              </a:rPr>
              <a:t>Konferencja Absolwentów XIX Promocji „Królowa Jadwiga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1571400" cy="476280"/>
          </a:xfrm>
          <a:prstGeom prst="rect">
            <a:avLst/>
          </a:prstGeom>
          <a:ln w="0">
            <a:noFill/>
          </a:ln>
        </p:spPr>
      </p:pic>
      <p:sp>
        <p:nvSpPr>
          <p:cNvPr id="55" name="Podtytuł 2"/>
          <p:cNvSpPr/>
          <p:nvPr/>
        </p:nvSpPr>
        <p:spPr>
          <a:xfrm>
            <a:off x="468360" y="6524640"/>
            <a:ext cx="82296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7f7f7f"/>
                </a:solidFill>
                <a:latin typeface="Calibri"/>
              </a:rPr>
              <a:t>Konferencja Absolwentów XIX Promocji „Królowa Jadwiga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1585800" y="20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Object 6"/>
          <p:cNvGraphicFramePr/>
          <p:nvPr/>
        </p:nvGraphicFramePr>
        <p:xfrm>
          <a:off x="0" y="1074600"/>
          <a:ext cx="8763120" cy="4708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58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074600"/>
                    <a:ext cx="8763120" cy="47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Rectangle 9"/>
          <p:cNvSpPr/>
          <p:nvPr/>
        </p:nvSpPr>
        <p:spPr>
          <a:xfrm>
            <a:off x="1800360" y="1781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1571400" cy="476280"/>
          </a:xfrm>
          <a:prstGeom prst="rect">
            <a:avLst/>
          </a:prstGeom>
          <a:ln w="0">
            <a:noFill/>
          </a:ln>
        </p:spPr>
      </p:pic>
      <p:sp>
        <p:nvSpPr>
          <p:cNvPr id="61" name="Podtytuł 2"/>
          <p:cNvSpPr/>
          <p:nvPr/>
        </p:nvSpPr>
        <p:spPr>
          <a:xfrm>
            <a:off x="468360" y="6524640"/>
            <a:ext cx="82296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7f7f7f"/>
                </a:solidFill>
                <a:latin typeface="Calibri"/>
              </a:rPr>
              <a:t>Konferencja Absolwentów XIX Promocji „Królowa Jadwiga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1585800" y="20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7"/>
          <p:cNvSpPr/>
          <p:nvPr/>
        </p:nvSpPr>
        <p:spPr>
          <a:xfrm>
            <a:off x="1800360" y="1781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Object 8"/>
          <p:cNvGraphicFramePr/>
          <p:nvPr/>
        </p:nvGraphicFramePr>
        <p:xfrm>
          <a:off x="533520" y="1028880"/>
          <a:ext cx="8076960" cy="48006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65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1028880"/>
                    <a:ext cx="807696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1571400" cy="47628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pl-PL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ziałalno</a:t>
            </a:r>
            <a:r>
              <a:rPr b="0" lang="pl-PL" sz="3600" spc="-1" strike="noStrike">
                <a:solidFill>
                  <a:srgbClr val="000000"/>
                </a:solidFill>
                <a:latin typeface="Calibri"/>
              </a:rPr>
              <a:t>ść</a:t>
            </a:r>
            <a:r>
              <a:rPr b="0" lang="pl-PL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 Pa</a:t>
            </a:r>
            <a:r>
              <a:rPr b="0" lang="pl-PL" sz="3600" spc="-1" strike="noStrike">
                <a:solidFill>
                  <a:srgbClr val="000000"/>
                </a:solidFill>
                <a:latin typeface="Calibri"/>
              </a:rPr>
              <a:t>ń</a:t>
            </a:r>
            <a:r>
              <a:rPr b="0" lang="pl-PL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stwa</a:t>
            </a: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1992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- T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zw. Nowy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Ł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ad Mieszkaniow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1995 - U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stawa o niektórych formach popierania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budownictwa mieszkaniowego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podstawy prawne mi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ę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dzy innymi dla organizowania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TB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Konstytucja Rzeczpospolitej Polskiej w art. 75 ust. 1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odtytuł 2"/>
          <p:cNvSpPr/>
          <p:nvPr/>
        </p:nvSpPr>
        <p:spPr>
          <a:xfrm>
            <a:off x="468360" y="6524640"/>
            <a:ext cx="82296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7f7f7f"/>
                </a:solidFill>
                <a:latin typeface="Calibri"/>
              </a:rPr>
              <a:t>Konferencja Absolwentów XIX Promocji „Królowa Jadwiga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1571400" cy="47628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Calibri"/>
              </a:rPr>
              <a:t>Rodzina na Swoim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Cel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omoc rodzinom mniej zamo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ż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nym w nabyciu własnego mieszkania lub domu poprzez dost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ę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p do tanich kredytów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opraw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koniunktury w bran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ż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y budowlanej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odtytuł 2"/>
          <p:cNvSpPr/>
          <p:nvPr/>
        </p:nvSpPr>
        <p:spPr>
          <a:xfrm>
            <a:off x="468360" y="6524640"/>
            <a:ext cx="82296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7f7f7f"/>
                </a:solidFill>
                <a:latin typeface="Calibri"/>
              </a:rPr>
              <a:t>Konferencja Absolwentów XIX Promocji „Królowa Jadwiga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Group 15"/>
          <p:cNvGrpSpPr/>
          <p:nvPr/>
        </p:nvGrpSpPr>
        <p:grpSpPr>
          <a:xfrm>
            <a:off x="1828800" y="3809880"/>
            <a:ext cx="1066680" cy="841320"/>
            <a:chOff x="1828800" y="3809880"/>
            <a:chExt cx="1066680" cy="841320"/>
          </a:xfrm>
        </p:grpSpPr>
        <p:sp>
          <p:nvSpPr>
            <p:cNvPr id="75" name="AutoShape 17"/>
            <p:cNvSpPr/>
            <p:nvPr/>
          </p:nvSpPr>
          <p:spPr>
            <a:xfrm>
              <a:off x="1828800" y="3809880"/>
              <a:ext cx="1066680" cy="841320"/>
            </a:xfrm>
            <a:prstGeom prst="octagon">
              <a:avLst>
                <a:gd name="adj" fmla="val 23148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Text Box 16"/>
            <p:cNvSpPr/>
            <p:nvPr/>
          </p:nvSpPr>
          <p:spPr>
            <a:xfrm>
              <a:off x="1909800" y="3906000"/>
              <a:ext cx="903240" cy="64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000" spc="-1" strike="noStrike">
                  <a:solidFill>
                    <a:srgbClr val="000000"/>
                  </a:solidFill>
                  <a:latin typeface="Calibri"/>
                  <a:ea typeface="Arial Unicode MS"/>
                </a:rPr>
                <a:t>Instytycja kredytow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Group 12"/>
          <p:cNvGrpSpPr/>
          <p:nvPr/>
        </p:nvGrpSpPr>
        <p:grpSpPr>
          <a:xfrm>
            <a:off x="3267000" y="4448160"/>
            <a:ext cx="1044720" cy="825480"/>
            <a:chOff x="3267000" y="4448160"/>
            <a:chExt cx="1044720" cy="825480"/>
          </a:xfrm>
        </p:grpSpPr>
        <p:sp>
          <p:nvSpPr>
            <p:cNvPr id="78" name="AutoShape 14"/>
            <p:cNvSpPr/>
            <p:nvPr/>
          </p:nvSpPr>
          <p:spPr>
            <a:xfrm>
              <a:off x="3267000" y="4448160"/>
              <a:ext cx="1044720" cy="825480"/>
            </a:xfrm>
            <a:prstGeom prst="octagon">
              <a:avLst>
                <a:gd name="adj" fmla="val 23148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 Box 13"/>
            <p:cNvSpPr/>
            <p:nvPr/>
          </p:nvSpPr>
          <p:spPr>
            <a:xfrm>
              <a:off x="3361320" y="4543920"/>
              <a:ext cx="854280" cy="63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alibri"/>
                  <a:ea typeface="Arial Unicode MS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000" spc="-1" strike="noStrike">
                  <a:solidFill>
                    <a:srgbClr val="000000"/>
                  </a:solidFill>
                  <a:latin typeface="Calibri"/>
                  <a:ea typeface="Arial Unicode MS"/>
                </a:rPr>
                <a:t>Beneficje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Group 19"/>
          <p:cNvGrpSpPr/>
          <p:nvPr/>
        </p:nvGrpSpPr>
        <p:grpSpPr>
          <a:xfrm>
            <a:off x="4572000" y="4362480"/>
            <a:ext cx="1028880" cy="1023840"/>
            <a:chOff x="4572000" y="4362480"/>
            <a:chExt cx="1028880" cy="1023840"/>
          </a:xfrm>
        </p:grpSpPr>
        <p:sp>
          <p:nvSpPr>
            <p:cNvPr id="81" name="AutoShape 21"/>
            <p:cNvSpPr/>
            <p:nvPr/>
          </p:nvSpPr>
          <p:spPr>
            <a:xfrm>
              <a:off x="4572000" y="4362480"/>
              <a:ext cx="1028880" cy="1023840"/>
            </a:xfrm>
            <a:prstGeom prst="octagon">
              <a:avLst>
                <a:gd name="adj" fmla="val 23148"/>
              </a:avLst>
            </a:prstGeom>
            <a:solidFill>
              <a:srgbClr val="ffffff"/>
            </a:solidFill>
            <a:ln w="28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20"/>
            <p:cNvSpPr/>
            <p:nvPr/>
          </p:nvSpPr>
          <p:spPr>
            <a:xfrm>
              <a:off x="4689360" y="4479840"/>
              <a:ext cx="79236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alibri"/>
                  <a:ea typeface="Arial Unicode MS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000" spc="-1" strike="noStrike">
                  <a:solidFill>
                    <a:srgbClr val="000000"/>
                  </a:solidFill>
                  <a:latin typeface="Calibri"/>
                  <a:ea typeface="Arial Unicode MS"/>
                </a:rPr>
                <a:t>Dewelop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Group 9"/>
          <p:cNvGrpSpPr/>
          <p:nvPr/>
        </p:nvGrpSpPr>
        <p:grpSpPr>
          <a:xfrm>
            <a:off x="1819440" y="5229360"/>
            <a:ext cx="1117440" cy="799920"/>
            <a:chOff x="1819440" y="5229360"/>
            <a:chExt cx="1117440" cy="799920"/>
          </a:xfrm>
        </p:grpSpPr>
        <p:sp>
          <p:nvSpPr>
            <p:cNvPr id="84" name="AutoShape 11"/>
            <p:cNvSpPr/>
            <p:nvPr/>
          </p:nvSpPr>
          <p:spPr>
            <a:xfrm>
              <a:off x="1819440" y="5229360"/>
              <a:ext cx="1117440" cy="799920"/>
            </a:xfrm>
            <a:prstGeom prst="octagon">
              <a:avLst>
                <a:gd name="adj" fmla="val 23148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10"/>
            <p:cNvSpPr/>
            <p:nvPr/>
          </p:nvSpPr>
          <p:spPr>
            <a:xfrm>
              <a:off x="1911240" y="5321520"/>
              <a:ext cx="932040" cy="61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000" spc="-1" strike="noStrike">
                  <a:solidFill>
                    <a:srgbClr val="000000"/>
                  </a:solidFill>
                  <a:latin typeface="Calibri"/>
                  <a:ea typeface="Arial Unicode MS"/>
                </a:rPr>
                <a:t>Fundusz dopłat/ BG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Line 8"/>
          <p:cNvSpPr/>
          <p:nvPr/>
        </p:nvSpPr>
        <p:spPr>
          <a:xfrm>
            <a:off x="2914560" y="4505400"/>
            <a:ext cx="335160" cy="214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7"/>
          <p:cNvSpPr/>
          <p:nvPr/>
        </p:nvSpPr>
        <p:spPr>
          <a:xfrm flipV="1">
            <a:off x="2362320" y="4647960"/>
            <a:ext cx="0" cy="571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6"/>
          <p:cNvSpPr/>
          <p:nvPr/>
        </p:nvSpPr>
        <p:spPr>
          <a:xfrm flipV="1">
            <a:off x="2914560" y="5076360"/>
            <a:ext cx="357120" cy="365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18"/>
          <p:cNvSpPr/>
          <p:nvPr/>
        </p:nvSpPr>
        <p:spPr>
          <a:xfrm flipH="1">
            <a:off x="4352400" y="4838760"/>
            <a:ext cx="228600" cy="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2"/>
          <p:cNvSpPr/>
          <p:nvPr/>
        </p:nvSpPr>
        <p:spPr>
          <a:xfrm>
            <a:off x="2819520" y="3429000"/>
            <a:ext cx="2933640" cy="21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300" spc="-1" strike="noStrike">
                <a:solidFill>
                  <a:srgbClr val="000000"/>
                </a:solidFill>
                <a:latin typeface="Calibri"/>
                <a:ea typeface="Arial Unicode MS"/>
              </a:rPr>
              <a:t>Interesariusze programu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300" spc="-1" strike="noStrike">
                <a:solidFill>
                  <a:srgbClr val="000000"/>
                </a:solidFill>
                <a:latin typeface="Calibri"/>
                <a:ea typeface="Arial Unicode MS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  <a:ea typeface="Arial Unicode MS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  <a:ea typeface="Arial Unicode MS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  <a:ea typeface="Arial Unicode MS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  <a:ea typeface="Arial Unicode MS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  <a:ea typeface="Arial Unicode MS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  <a:ea typeface="Arial Unicode MS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  <a:ea typeface="Arial Unicode MS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"/>
            </a:b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7"/>
          <p:cNvSpPr/>
          <p:nvPr/>
        </p:nvSpPr>
        <p:spPr>
          <a:xfrm>
            <a:off x="0" y="213192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  <a:ea typeface="Arial Unicode MS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1571400" cy="47628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Calibri"/>
              </a:rPr>
              <a:t>Warunki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Grupa docelow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arunki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dopłat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do kredytó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Ograniczen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Rola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BG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odtytuł 2"/>
          <p:cNvSpPr/>
          <p:nvPr/>
        </p:nvSpPr>
        <p:spPr>
          <a:xfrm>
            <a:off x="468360" y="6524640"/>
            <a:ext cx="82296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7f7f7f"/>
                </a:solidFill>
                <a:latin typeface="Calibri"/>
              </a:rPr>
              <a:t>Konferencja Absolwentów XIX Promocji „Królowa Jadwiga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0" y="213192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  <a:ea typeface="Arial Unicode MS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1571400" cy="47628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OCENA PROGRAM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odtytuł 2"/>
          <p:cNvSpPr/>
          <p:nvPr/>
        </p:nvSpPr>
        <p:spPr>
          <a:xfrm>
            <a:off x="468360" y="6524640"/>
            <a:ext cx="82296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7f7f7f"/>
                </a:solidFill>
                <a:latin typeface="Calibri"/>
              </a:rPr>
              <a:t>Konferencja Absolwentów XIX Promocji „Królowa Jadwiga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3T14:58:05Z</dcterms:created>
  <dc:creator>Michał Koprowski</dc:creator>
  <dc:description/>
  <dc:language>en-US</dc:language>
  <cp:lastModifiedBy>Acer</cp:lastModifiedBy>
  <dcterms:modified xsi:type="dcterms:W3CDTF">2010-07-16T08:20:09Z</dcterms:modified>
  <cp:revision>37</cp:revision>
  <dc:subject/>
  <dc:title>Program „Rodzina na Swoim” jako instrument polityki mieszkaniowej państwa</dc:title>
</cp:coreProperties>
</file>